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E7551-335E-458E-958A-47E57A3A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2329B-49C9-4D09-B341-C53669638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C54CE-724E-40DD-8BCC-AF9CDD71E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43C82-A579-47F0-B792-5DA82F47D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E54E-FE08-4FEC-90AE-A0F2EF89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D274-AB4E-4B70-A4E9-B3193EDF6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2496F-3169-4DAD-BBE1-7DB994A9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5BF90-ADED-40BE-AB1A-0317920E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8A3E3-6A3E-4349-8272-42280888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97256-0908-4425-853C-B8846FC45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DE90-3B09-4075-8B3A-E867D2D9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486A-8EA2-4EF6-A7F4-84D4B5F41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9A14-686C-41A6-9C4E-1F529F919F3A}"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lang="en-GB" sz="1200" spc="-1" strike="noStrike">
                <a:solidFill>
                  <a:srgbClr val="000000"/>
                </a:solidFill>
                <a:latin typeface="Arial"/>
              </a:rPr>
              <a:t>a</a:t>
            </a:r>
            <a:r>
              <a:rPr b="0"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 nitului utilizat</a:t>
            </a:r>
            <a:r>
              <a:rPr b="0" lang="en-GB" sz="1200" spc="-1" strike="noStrike">
                <a:solidFill>
                  <a:srgbClr val="000000"/>
                </a:solidFill>
                <a:latin typeface="Arial"/>
              </a:rPr>
              <a:t>,</a:t>
            </a:r>
            <a:r>
              <a:rPr b="0"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4716360" y="1844640"/>
            <a:ext cx="3438720" cy="34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48"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5Z</dcterms:modified>
  <cp:revision>2</cp:revision>
  <dc:subject>CNEE</dc:subject>
  <dc:title>CNEE</dc:title>
</cp:coreProperties>
</file>